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A180-04B3-4442-9832-D3831A99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5183-B73F-41C5-ABE9-8A585761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2E6-7C32-478D-B319-5E2B24E6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2A1-AA92-4C1A-BAA2-386DC898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729-A7D5-4599-99F3-67D7D6E3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28CC-FC07-495D-9649-9AA553DA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F993-7D57-45F0-ADC8-E3A6167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9005-DE50-4EC2-B5E9-C341D797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047B-985E-4B5A-A560-E5CABD9F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CB69-3D3D-4CD5-99D4-201881F6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E1-6E15-43B0-9FEA-71FB2D363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D4A9-619F-4E14-91D8-6D386724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3789-E07E-4B37-83F2-E8272D792C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cabulary WOW Wo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rittnei Joh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30085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ima Don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6" descr="2011-Grammys-Nicki-Minaj-in-givenchy-570x450.jpg"/>
          <p:cNvPicPr/>
          <p:nvPr/>
        </p:nvPicPr>
        <p:blipFill>
          <a:blip r:embed="rId1"/>
          <a:stretch/>
        </p:blipFill>
        <p:spPr>
          <a:xfrm>
            <a:off x="3575160" y="1181160"/>
            <a:ext cx="5111640" cy="40370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Nicki Minaj is a prima donna with her extraordinary outfits. Nicki’s designer once made her dress pink when it should’ve been cheetah, and she through a temper tantrum.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12:08:08Z</dcterms:created>
  <dc:creator>Student1</dc:creator>
  <dc:description/>
  <dc:language>en-US</dc:language>
  <cp:lastModifiedBy>Student1</cp:lastModifiedBy>
  <dcterms:modified xsi:type="dcterms:W3CDTF">2012-05-21T12:26:01Z</dcterms:modified>
  <cp:revision>1</cp:revision>
  <dc:subject/>
  <dc:title>Vocabulary WOW Words</dc:title>
</cp:coreProperties>
</file>